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6B8-2446-4E09-82CB-CC423F61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343-A09E-4265-8D56-EA432881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626-388B-4C9C-B6C3-A0665148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FEA-5D92-49DD-83A4-08B7C4A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9EF-88B8-48E8-BFAB-F02AB363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5EE-639A-4724-8964-42A79F98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1B7-FA7A-486B-B87F-31FB6073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BBE-34BA-4CE9-A7FC-01B833F1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6F9-177E-4DE4-91D6-672D6F8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3D9-6CB0-4749-9B6E-728CE49A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FF4-FD78-4D66-9603-AC6928C3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070-F987-4186-B042-88EABC0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5985-A1FB-4489-ABB4-4B563488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newyork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newyork/" TargetMode="External"/><Relationship Id="rId4" Type="http://schemas.openxmlformats.org/officeDocument/2006/relationships/hyperlink" Target="http://www.enchantedlearning.com/usa/statesbw/newyork.s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law.ou.edu/ushistory/flags/nyflag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Easternbluebird.shtml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enchantedlearning.com/subjects/mammals/rodent/Beavprintout.shtml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www.enchantedlearning.com/subjects/insects/ladybug/Ladybug.shtml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15200" y="4952880"/>
            <a:ext cx="4419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son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9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6680" y="838080"/>
            <a:ext cx="66294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apyrus"/>
              </a:rPr>
              <a:t>New York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apyrus"/>
              <a:ea typeface="Papyru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91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8039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 State So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Capital: Alb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Population: 18,096,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Entered the Union: July 26, 1788 (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Papyru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Motto: Excels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Nickname: Empir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Flower: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Bird: Blue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Song: I Love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Meaning Behind Name: Named for the duke of York, the brother Charle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91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Interesting Fact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Gem: Moonstone (others not include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Major Industries: Finance, communications, international trade, publishing, fashion, farming (fruit, dairy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State Tree: Sugar Map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91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5181840" cy="381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2784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1-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newyork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4114800"/>
            <a:ext cx="358128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14479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York is also referred to as, </a:t>
            </a:r>
            <a:r>
              <a:rPr b="0" i="1" lang="en-US" sz="2800" spc="-1" strike="noStrike">
                <a:solidFill>
                  <a:srgbClr val="000000"/>
                </a:solidFill>
                <a:latin typeface="Papyrus"/>
              </a:rPr>
              <a:t>the Empi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4876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York’s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4032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State Flags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2-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ou.edu/ushistory/flags/nyflag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6094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2286000"/>
            <a:ext cx="2133360" cy="183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41911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12792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2-12, http://www.enchantedlearning.com/usa/states/newyork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743200"/>
            <a:ext cx="3962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Eastern Bluebi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809880"/>
            <a:ext cx="1828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Bea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867280"/>
            <a:ext cx="3200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Nine-Spotted Ladybu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1911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York is known for these animal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48769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066680" cy="1024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6248520"/>
            <a:ext cx="5181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2-12, http://www.enchantedlearning.com/usa/states/newyork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371600"/>
            <a:ext cx="175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Ap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343400"/>
            <a:ext cx="106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Ro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81080"/>
            <a:ext cx="2133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Sugar Ma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2133720"/>
            <a:ext cx="4953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pyrus"/>
              </a:rPr>
              <a:t>One of New York’s biggest industries is farming fruit and dairy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457200" y="3808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4724280" y="3276720"/>
            <a:ext cx="4267440" cy="2971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638680" y="1066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York’s state capital is Alb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34032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Postcards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bany, 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2-12, http://www.postcardsfrom.com/t1/980602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7Z</dcterms:created>
  <dc:creator>install</dc:creator>
  <dc:description/>
  <dc:language>en-US</dc:language>
  <cp:lastModifiedBy>install</cp:lastModifiedBy>
  <dcterms:modified xsi:type="dcterms:W3CDTF">2012-04-16T13:04:46Z</dcterms:modified>
  <cp:revision>16</cp:revision>
  <dc:subject/>
  <dc:title>Slide 1</dc:title>
</cp:coreProperties>
</file>